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6EA5-B636-4481-9B20-FE74E6195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3E28-FCAD-4207-A0B8-CFA7B38CC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9889-EAC0-4641-8684-EF7210277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E037-81B1-42BA-BF9F-9AD161985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79CE-5E50-43F3-8AF9-71F3E71EC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doctoronline.com/medical-atlas.asp?c=4&amp;id=22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43B7-5AF3-4205-B746-3A25F4E85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08EB-B9B1-477C-974E-1ABE86813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digestive-disorders/large-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890E-2CCD-41A0-841C-81C02788C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ayoclinic.org/-/media/kcms/gbs/patient-consumer/images/2016/05/02/14/44/mcdc7_endoscopy-8col.ash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BE84-3456-4003-A4C7-F59306B86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sdmanuals.com/professional/gastrointestinal-disorders/diagnostic-and-therapeutic-gi-procedures/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4706-BD4A-4181-8C6E-3EC80B327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jgnet.com/1948-5190/full/v7/i1/13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9CC7-DB81-4584-B8F9-FC6FFE400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0CB1-B124-4A12-A459-10088E19A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04E5-49C7-40F8-8C8B-66E40A5F3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93C6-2462-4277-9602-523D9D8CF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eatorama.com/2008/09/15/wim-delvoye-worlds-most-badass-artis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an conceptual artist Wim Delvoye created a machine that digests food…and produces f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4122-A773-4C06-ACB8-93B1D854D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rriam-webster.com/art/med/digestio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991C-FAC0-4F21-9274-94B283B59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6DD9-3F55-4732-AD05-AC49452EF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astropatienteducation.com/Gatro_Pat/Pat_Ed_web_pages/Small_Intest/The_Small_Intestine.htm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C9AC-9AE2-4F3B-94CE-CE6C4B7C3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, pancreas, gall blad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1436-E6BE-44FD-AA79-A0A4035EC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A6A1-3FD5-4906-AB01-CC30C2696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1392-01D5-464C-9500-82C5048AD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782-B000-4B3C-A187-71F4739A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4FD2-7BFB-45DF-B0DB-BE007C4E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D56-7ADB-48FC-96C8-3652F6D4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7BC-01E1-4DF1-AAC4-9B01BB81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2F3-5EFE-410D-9702-AC6E1785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459-5064-4576-A717-BBE02514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350-AE76-4DF6-AA1C-A19A06EF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2E7-4D35-4FF3-B260-F6DC814A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4643-E3AB-4E07-85F1-CB43F0AB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61F-2177-4408-A83A-6E6B2187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8F2-F092-4F32-8161-8E06E99D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F8E-71E0-4E6B-9C87-F68CC835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5611-1A55-402F-8C10-F358768DC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 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mall &amp; large intes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psinogen released by panc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t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yps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enzy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e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psin continues to break down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xypeptidase &amp; erepsin break down small chains into single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 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roduced in liver &amp; stored in gall bladder and released into the duode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e breaks down large fat glo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p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creted by pancreas break down fats into smaller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ed fats are absorb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te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Intestine -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hotos_88EB3125-5618-45A8-BA5D-2834A502C2E1"/>
          <p:cNvPicPr/>
          <p:nvPr/>
        </p:nvPicPr>
        <p:blipFill>
          <a:blip r:embed="rId1"/>
          <a:stretch/>
        </p:blipFill>
        <p:spPr>
          <a:xfrm>
            <a:off x="911160" y="1981080"/>
            <a:ext cx="7321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transport (including osm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 are absorbed in capillary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7.6 cm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.5 m i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h9991263_001"/>
          <p:cNvPicPr/>
          <p:nvPr/>
        </p:nvPicPr>
        <p:blipFill>
          <a:blip r:embed="rId1"/>
          <a:stretch/>
        </p:blipFill>
        <p:spPr>
          <a:xfrm>
            <a:off x="4114800" y="2548080"/>
            <a:ext cx="4572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water is absor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+ species of bacteria produce essential vitamins K and some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ces are egested through the 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sc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3" descr="mcdc7_endoscopy-8col.ashx.jpeg"/>
          <p:cNvPicPr/>
          <p:nvPr/>
        </p:nvPicPr>
        <p:blipFill>
          <a:blip r:embed="rId1"/>
          <a:srcRect l="-34428" t="0" r="-34428" b="0"/>
          <a:stretch/>
        </p:blipFill>
        <p:spPr>
          <a:xfrm>
            <a:off x="291960" y="1773360"/>
            <a:ext cx="8704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orga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Content Placeholder 3" descr="p5100129-endoscopy-stomach-science-photo-library-high.jpg"/>
          <p:cNvPicPr/>
          <p:nvPr/>
        </p:nvPicPr>
        <p:blipFill>
          <a:blip r:embed="rId1"/>
          <a:srcRect l="-44017" t="0" r="-44017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sule End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5" descr="WJGE-7-13-g002.jpg"/>
          <p:cNvPicPr/>
          <p:nvPr/>
        </p:nvPicPr>
        <p:blipFill>
          <a:blip r:embed="rId1"/>
          <a:srcRect l="-16469" t="0" r="-16469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Graw-Hill Ryerson animation &amp; quiz (good overview, but not a lot of detail about the enzymes &amp; secre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McGraw-Hill digestion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finally…science meets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wim-delvoye-cloaca-machines"/>
          <p:cNvPicPr/>
          <p:nvPr/>
        </p:nvPicPr>
        <p:blipFill>
          <a:blip r:embed="rId1"/>
          <a:stretch/>
        </p:blipFill>
        <p:spPr>
          <a:xfrm>
            <a:off x="1477800" y="1676520"/>
            <a:ext cx="6188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digestio"/>
          <p:cNvPicPr/>
          <p:nvPr/>
        </p:nvPicPr>
        <p:blipFill>
          <a:blip r:embed="rId1"/>
          <a:stretch/>
        </p:blipFill>
        <p:spPr>
          <a:xfrm>
            <a:off x="2135160" y="304920"/>
            <a:ext cx="487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quizzes are good for reviewing anatomy, but not the enzymes/secre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kidshealth.org/kid/htbw/DSquiz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ftschools.com/quizzes/science/digestive_system/quiz75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2.5 cm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7 m i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uode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rst 25-30 cm: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eju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igestion/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le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mall_intestine"/>
          <p:cNvPicPr/>
          <p:nvPr/>
        </p:nvPicPr>
        <p:blipFill>
          <a:blip r:embed="rId1"/>
          <a:stretch/>
        </p:blipFill>
        <p:spPr>
          <a:xfrm>
            <a:off x="4343400" y="2573280"/>
            <a:ext cx="449568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ory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liver_surgical_flat_labels-cropped"/>
          <p:cNvPicPr/>
          <p:nvPr/>
        </p:nvPicPr>
        <p:blipFill>
          <a:blip r:embed="rId1"/>
          <a:stretch/>
        </p:blipFill>
        <p:spPr>
          <a:xfrm>
            <a:off x="2160720" y="1981080"/>
            <a:ext cx="482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of 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yme has pH of about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s prosecretin i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re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causes pancreas to release bicarbonate ions (increasing pH to 9.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sin is inactivated, protecting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cretin also stimulates liver to produce bile, and pancreas to release enzy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creatic Secre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yme enters duode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ecystokinin (CCK) is released into blood by cells in duode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K causes pancreatic cells to release various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reatic amylase is released into duode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s breakdown of starch started in the 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20:23Z</dcterms:created>
  <dc:creator>rubina khan</dc:creator>
  <dc:description/>
  <dc:language>en-US</dc:language>
  <cp:lastModifiedBy>rubina khan</cp:lastModifiedBy>
  <dcterms:modified xsi:type="dcterms:W3CDTF">2017-05-10T12:01:38Z</dcterms:modified>
  <cp:revision>74</cp:revision>
  <dc:subject/>
  <dc:title>PowerPoint Presentation</dc:title>
</cp:coreProperties>
</file>